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4314F-79D7-4462-B543-E45621290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A225D-2B75-4A93-959B-87F57004C9F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6A656-5E1A-4A26-A044-5117CFE84F7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98EBE-A0A9-48B0-86A0-16F649D190F1}"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CC31C-658F-4C9C-A53C-F4D7CA50470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92EF3-DF14-4999-A8BA-B3934436C89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CF3D9-7EF2-4D9C-A550-81A20196DF3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D8EBF-4B1E-4939-9500-12D360025ED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AAC0E-1B9E-44E5-84C0-58D09F8EC71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A1392-C2D3-4805-81D4-DFC84C5C31F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6C623-03A7-4D67-9127-EDBF1D53D7C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D72A5-F523-4AF6-8073-AE29F85C92A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22199-9809-4668-9E57-866B38641B3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FF7C4-721F-4642-B05E-7A841A058188}"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32"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9A9ED826-BBC7-4BDE-8BD1-BDD8A4EAFF57}"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5AC00-CBCC-4C06-AA70-7414E12D540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2DEE8-E3A5-4AC2-BE04-558881A493A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E6F9C-168B-482D-A30D-022C90EEACC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568AC-F095-419B-9CF2-CE67C34232B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6240" y="687240"/>
            <a:ext cx="4570200" cy="342756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4D2FD6-33BA-4EDD-9C41-3A3C0E398B0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0C650-4277-42B8-A3E3-CC8B6450059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C81D0-4227-4B0D-8450-F2D9B64FBAD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68C81-416D-427F-9446-C7959D211BB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3FB1B-4FAC-45E0-8DB8-19D749C3EB4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D826E-FE43-4760-8477-CF93D044F48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799D8-6BD5-4064-8225-C81A0215B5B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72AC4-31DE-4ED4-9D80-089425A086D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FABFF-B973-4DBA-8D5E-E09755ADC0E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6ED7E-8546-4DED-B4A4-8D68AE19E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5A7E3-7116-4076-B450-D4DAF4F97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C8E09-8E02-4EF2-979B-108ACD861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46032-5512-4326-A1AD-E15682D6B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DE212-0CFF-4085-BCC9-58975FFB8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EE9C0-9FA9-4615-886F-29A010650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593B5-7DB3-4FE3-84E5-86363717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7C3CB-DF0E-44F4-8C1A-3C9932B1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112B-D934-4839-9633-29B8B7834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E1B0E-CEBB-436F-85C4-EF8F44452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D4048-5B6F-4CA7-A522-CE4B4F4ED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5F859-E62C-4CEE-98F5-1F8B3DFD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CAB1D-CB6D-4B85-AEFD-86AB05E1E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E96F2-1A45-47BD-9FF3-F12FA48DB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22C28-15CA-420E-A477-053395725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BB85D-792D-46B7-A5E2-534456759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6AA09-91E9-4208-9F7E-7F7DAEC0C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3275-8356-4F19-8904-EC89C5EDA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D7E7-3916-4337-8D50-48D878EF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DB57-B012-494C-9C8C-5ACEDE430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4DB8-B23C-4890-8129-62D1568ED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1F98-81B8-423A-984C-0139B02E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D1BA-AD97-4A8F-8DB1-107B12562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C4C7-9EC0-4BF3-8DE9-FB0C33FFE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29802-BE0D-4034-99C3-5648F683B3A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778DF-0E0B-491D-91EE-FCD30F5ECDB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24400" y="1420920"/>
            <a:ext cx="3819600" cy="24415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0" y="1420560"/>
            <a:ext cx="540216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CA" sz="2800" spc="-1" strike="noStrike">
                <a:solidFill>
                  <a:srgbClr val="0d469b"/>
                </a:solidFill>
                <a:latin typeface="Arial"/>
              </a:rPr>
              <a:t>5 Core Capacities</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CA" sz="2800" spc="-1" strike="noStrike">
                <a:solidFill>
                  <a:srgbClr val="0d469b"/>
                </a:solidFill>
                <a:latin typeface="Arial"/>
              </a:rPr>
              <a:t>Core Leadership Capacity</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fade" transition="in">
                                      <p:cBhvr additive="repl">
                                        <p:cTn id="7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marL="34308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5440320" y="321948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0"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5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52" name="Group 6"/>
          <p:cNvGrpSpPr/>
          <p:nvPr/>
        </p:nvGrpSpPr>
        <p:grpSpPr>
          <a:xfrm>
            <a:off x="681120" y="3862440"/>
            <a:ext cx="7994520" cy="2442960"/>
            <a:chOff x="681120" y="3862440"/>
            <a:chExt cx="7994520" cy="2442960"/>
          </a:xfrm>
        </p:grpSpPr>
        <p:grpSp>
          <p:nvGrpSpPr>
            <p:cNvPr id="153" name="Group 7"/>
            <p:cNvGrpSpPr/>
            <p:nvPr/>
          </p:nvGrpSpPr>
          <p:grpSpPr>
            <a:xfrm>
              <a:off x="3621960" y="4062240"/>
              <a:ext cx="3663360" cy="2185560"/>
              <a:chOff x="3621960" y="4062240"/>
              <a:chExt cx="3663360" cy="2185560"/>
            </a:xfrm>
          </p:grpSpPr>
          <p:sp>
            <p:nvSpPr>
              <p:cNvPr id="154"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5"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6"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7"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58"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59"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0"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1"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6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64" name="Picture 9" descr=""/>
          <p:cNvPicPr/>
          <p:nvPr/>
        </p:nvPicPr>
        <p:blipFill>
          <a:blip r:embed="rId1"/>
          <a:stretch/>
        </p:blipFill>
        <p:spPr>
          <a:xfrm>
            <a:off x="281160" y="1968480"/>
            <a:ext cx="2786040" cy="2195640"/>
          </a:xfrm>
          <a:prstGeom prst="rect">
            <a:avLst/>
          </a:prstGeom>
          <a:ln w="0">
            <a:noFill/>
          </a:ln>
        </p:spPr>
      </p:pic>
      <p:sp>
        <p:nvSpPr>
          <p:cNvPr id="16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6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6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EE1C1-2516-4738-A44B-1EB7CA38140D}"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6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6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7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168"/>
                                        </p:tgtEl>
                                      </p:cBhvr>
                                    </p:animEffect>
                                    <p:set>
                                      <p:cBhvr>
                                        <p:cTn id="81" dur="1" fill="hold">
                                          <p:stCondLst>
                                            <p:cond delay="1999"/>
                                          </p:stCondLst>
                                        </p:cTn>
                                        <p:tgtEl>
                                          <p:spTgt spid="168"/>
                                        </p:tgtEl>
                                        <p:attrNameLst>
                                          <p:attrName>style.visibility</p:attrName>
                                        </p:attrNameLst>
                                      </p:cBhvr>
                                      <p:to>
                                        <p:strVal val="hidden"/>
                                      </p:to>
                                    </p:set>
                                  </p:childTnLst>
                                </p:cTn>
                              </p:par>
                              <p:par>
                                <p:cTn id="82" nodeType="withEffect" fill="hold" presetClass="entr" presetID="10">
                                  <p:stCondLst>
                                    <p:cond delay="0"/>
                                  </p:stCondLst>
                                  <p:childTnLst>
                                    <p:set>
                                      <p:cBhvr>
                                        <p:cTn id="83" dur="1" fill="hold">
                                          <p:stCondLst>
                                            <p:cond delay="0"/>
                                          </p:stCondLst>
                                        </p:cTn>
                                        <p:tgtEl>
                                          <p:spTgt spid="169"/>
                                        </p:tgtEl>
                                        <p:attrNameLst>
                                          <p:attrName>style.visibility</p:attrName>
                                        </p:attrNameLst>
                                      </p:cBhvr>
                                      <p:to>
                                        <p:strVal val="visible"/>
                                      </p:to>
                                    </p:set>
                                    <p:animEffect filter="fade" transition="in">
                                      <p:cBhvr additive="repl">
                                        <p:cTn id="84" dur="2000"/>
                                        <p:tgtEl>
                                          <p:spTgt spid="169"/>
                                        </p:tgtEl>
                                      </p:cBhvr>
                                    </p:animEffect>
                                  </p:childTnLst>
                                </p:cTn>
                              </p:par>
                              <p:par>
                                <p:cTn id="85" nodeType="withEffect" fill="hold" presetClass="entr" presetID="10">
                                  <p:stCondLst>
                                    <p:cond delay="0"/>
                                  </p:stCondLst>
                                  <p:childTnLst>
                                    <p:set>
                                      <p:cBhvr>
                                        <p:cTn id="86" dur="1" fill="hold">
                                          <p:stCondLst>
                                            <p:cond delay="0"/>
                                          </p:stCondLst>
                                        </p:cTn>
                                        <p:tgtEl>
                                          <p:spTgt spid="170"/>
                                        </p:tgtEl>
                                        <p:attrNameLst>
                                          <p:attrName>style.visibility</p:attrName>
                                        </p:attrNameLst>
                                      </p:cBhvr>
                                      <p:to>
                                        <p:strVal val="visible"/>
                                      </p:to>
                                    </p:set>
                                    <p:animEffect filter="fade" transition="in">
                                      <p:cBhvr additive="repl">
                                        <p:cTn id="8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7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3" name="Picture 9" descr=""/>
          <p:cNvPicPr/>
          <p:nvPr/>
        </p:nvPicPr>
        <p:blipFill>
          <a:blip r:embed="rId1"/>
          <a:stretch/>
        </p:blipFill>
        <p:spPr>
          <a:xfrm>
            <a:off x="5810400" y="3657600"/>
            <a:ext cx="2322360" cy="1859040"/>
          </a:xfrm>
          <a:prstGeom prst="rect">
            <a:avLst/>
          </a:prstGeom>
          <a:ln w="0">
            <a:noFill/>
          </a:ln>
        </p:spPr>
      </p:pic>
      <p:sp>
        <p:nvSpPr>
          <p:cNvPr id="17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rap-Up</a:t>
            </a:r>
            <a:endParaRPr b="0" lang="en-US" sz="3200" spc="-1" strike="noStrike">
              <a:solidFill>
                <a:srgbClr val="3b587a"/>
              </a:solidFill>
              <a:latin typeface="Arial"/>
            </a:endParaRPr>
          </a:p>
        </p:txBody>
      </p:sp>
      <p:sp>
        <p:nvSpPr>
          <p:cNvPr id="17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your web, record responses to:</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a:p>
            <a:pPr marL="343080" indent="-34308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losing</a:t>
            </a:r>
            <a:endParaRPr b="0" lang="en-US" sz="3200" spc="-1" strike="noStrike">
              <a:solidFill>
                <a:srgbClr val="3b587a"/>
              </a:solidFill>
              <a:latin typeface="Arial"/>
            </a:endParaRPr>
          </a:p>
        </p:txBody>
      </p:sp>
      <p:sp>
        <p:nvSpPr>
          <p:cNvPr id="17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5 Core Capacities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0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0" name="Picture 2" descr=""/>
          <p:cNvPicPr/>
          <p:nvPr/>
        </p:nvPicPr>
        <p:blipFill>
          <a:blip r:embed="rId1"/>
          <a:stretch/>
        </p:blipFill>
        <p:spPr>
          <a:xfrm>
            <a:off x="957240" y="949320"/>
            <a:ext cx="7230960" cy="4406760"/>
          </a:xfrm>
          <a:prstGeom prst="rect">
            <a:avLst/>
          </a:prstGeom>
          <a:ln w="0">
            <a:noFill/>
          </a:ln>
        </p:spPr>
      </p:pic>
      <p:pic>
        <p:nvPicPr>
          <p:cNvPr id="111" name="Picture 3" descr=""/>
          <p:cNvPicPr/>
          <p:nvPr/>
        </p:nvPicPr>
        <p:blipFill>
          <a:blip r:embed="rId2"/>
          <a:stretch/>
        </p:blipFill>
        <p:spPr>
          <a:xfrm>
            <a:off x="433440" y="1305000"/>
            <a:ext cx="8324640" cy="2616120"/>
          </a:xfrm>
          <a:prstGeom prst="rect">
            <a:avLst/>
          </a:prstGeom>
          <a:ln w="0">
            <a:noFill/>
          </a:ln>
        </p:spPr>
      </p:pic>
      <p:sp>
        <p:nvSpPr>
          <p:cNvPr id="112" name="TextBox 5"/>
          <p:cNvSpPr/>
          <p:nvPr/>
        </p:nvSpPr>
        <p:spPr>
          <a:xfrm>
            <a:off x="2587680" y="5356080"/>
            <a:ext cx="609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From Ontario Public School Board Association  http://www.opsba.or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1-30T03:31:00Z</dcterms:modified>
  <cp:revision>47</cp:revision>
  <dc:subject/>
  <dc:title>PLMLC Leadership Series  Thunder Bay Region Day 1</dc:title>
</cp:coreProperties>
</file>